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CC0-021A-45AE-9392-AC1B9AD6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27C-E68E-4AAB-994A-817BF1B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455CC-29AB-48A3-B6D4-1A54A49C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9FC4-1071-4990-9AE5-0C71BA83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2FD27-BFBD-4A79-8BDE-9BE57F1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36BC-33FF-4C3C-94AD-90DABE8A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94EAE-C804-411A-9DE9-071F360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FC539-BA5E-4B6D-ABCD-DC645F4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59F8A-8570-4625-9D93-543A421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474F6-3CAC-4399-9A2C-1F3D494D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8EF66-7BAB-4B72-9632-EE6D984F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BE1A1-AD00-41DD-B4B7-019390E1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D51-C74E-489A-8FA2-75899469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23BE-BD28-4D87-A628-CA67D7B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F0DEA-7E3C-471D-8330-7935576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26273-93B9-4445-916D-9728C50C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DBBB3-BC0E-447D-A6AB-23A74B1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28665-18F5-431A-9AC9-0DC4DE1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DB0E0-4B50-4ED3-8CBC-A3A0378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C5F12-BA7E-4045-BA87-4D962E6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DE07-E442-40E6-BB24-29723C6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299D-0FB2-41D8-8B3D-2BBA43FF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38B2C-18FC-4681-AC17-D15DD567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BE9-6FDA-42E5-8AA1-F6F566B7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B65E9-5E3C-4FA6-89DA-49BE2384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764D7-F8A9-4F81-B243-ED3953D7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2A980-E4CD-43A9-8F35-E9B0543C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2204-E140-4CF2-8E76-DA8869C1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3E75A-723E-45B2-832D-CE74F64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3394-F541-4308-AD6C-72DDEC0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30F63-94EB-4CE1-9C9A-8F648D0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E5B96-0A2A-4153-AA23-E27C64B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4E332-FA19-4DB3-B0E2-655EE90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847CC-E573-46CB-BCCA-E81A8C1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98D0-22A8-483C-B013-54C8232C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877CA-B00B-44EC-98F2-7BDDE0D5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938AD-1BAC-4093-A99D-6D39C2F6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9B990-1ADF-45EB-8B26-C59145DD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016E2-2200-4CA1-8C9D-0CC10F34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885B5-2FC3-4AE9-B805-1D57C25C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F48B3-6717-475C-BC47-A7F6F41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D9B59-5545-4657-944B-2C89EE82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2F7E-928F-4603-A8CF-945E0C13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9C8C9-AA32-47AC-A963-E4BEFFE9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5EE10-1535-4CB9-85C2-2400522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A88B-BBDE-4012-B2FE-355458AB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94511-3A9D-40A9-A45E-CD87D2C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24665-E108-4443-B2ED-2562DDF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CD606-A6AC-474E-B5B4-E43F828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1F3EF-212E-417E-8760-0772CC17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3F168-7091-48A9-80BE-0D7CF0E3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5963F-45C2-4C42-9319-82A808A9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D5776-7DB2-4CBB-9EFC-394645F9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71DAC-2D00-43C2-8212-ED87DE46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75C3E-F906-4DF7-9CAB-0379A51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EB96E-E4F7-4673-8EE2-D81B7BFB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9340-1DBD-4418-9CED-F320A71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1AFBF-4DB4-4E34-9466-2C41E306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B16B2-E266-424E-99F1-678027B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1E03B-FCD1-4270-9FEF-CE15C2D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52253-1936-47FB-AC35-01621CF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4D98C-25CE-48E8-9594-8A1D8D10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03CCF-F034-494C-9D6B-B1AB1D25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B9CDF-D34D-4DA8-958E-9B21291C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18BD2-D230-44D2-A4CF-8C5720C2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B278C-A7A9-4B43-8239-05B4ACD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16C7E-83C1-4AA5-9BC6-3ACF9245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6BF5-ACFF-488C-A78B-BEF071F6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67B15-C231-4EFF-B891-5489BE96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B39D7-0E41-4FF1-B051-124A1FF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20D6E-D18F-46D2-8259-D71A8361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1AB85-2D88-4E67-B040-1F71527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99DA5-1B07-4369-A442-BF743CD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A92A0-9188-4510-828D-410D1FC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96AC3-5F52-459D-8718-F6FA354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E4EC3-0858-42C4-883E-44D829B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D45FD-EAD0-41A4-96E2-E630881F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0117F-DCD8-4186-A42C-4AB7B73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CD61-F194-44A0-9EE0-DD2B2EB5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224CA-C2E7-4091-972E-5AD82F33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32B1E-3FD3-4EA1-9588-69F5375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40B7F-8D96-4F32-9620-6D33C154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F5FD6-6999-47E4-BBB7-658D85E6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E743D-854C-4D1D-8BE0-3D0B564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DDF1F-18DB-4B31-BC42-A27A22F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D361C-1E27-4D27-BB5E-D10E31C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C46DC-E088-492B-B79A-3F5034C9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853BB-8910-4FBC-AA06-9597F055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7C041-432E-4193-B57B-CA7F740D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2B4A-636E-401F-9515-CC146CD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9224C-DE30-4CF5-B2B4-A7CF164C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E467E-F509-4361-8712-3B6AF675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1AF5F-6F75-46D5-893C-DAE74D95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E53F9-FD93-4944-A83F-1E098524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46E76-D7CA-4907-A4B0-FF4267A6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CD9B1-DB22-4D0D-B09B-78D2E840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2DEF5-FEFE-485C-AB3A-961D4B8E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7D3F7-60C8-4010-830D-C2C65F1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E6FF4-BA15-48C9-A4E7-B117924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3BE8D-852A-4D3D-9412-10DE507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B97-2752-44BD-92A9-1B300C8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6E86D-0FB3-46BD-9179-81DBF965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CBA9A-43E0-4CEC-A8ED-9A49CE67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7ED52-A05C-4378-A2E1-E8E5F9D0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B0327-BDB4-4E43-809F-BEC7D32D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54DB4-E496-4C1B-ABAF-95F85CD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FF04F-DDA1-4735-A254-057C4240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05661-1AD5-4D4C-BBF0-1CE4B84D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30A90-03F3-4849-B44B-245ADCE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A0AB9-BCDA-47C0-AD6B-48CA6D37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8F8ED-E4FA-4658-9B15-5C340E22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D2D-BBF3-424D-9B86-E53CB49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F35-597C-4155-8204-A293749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5C4E0-DA1D-43D4-9305-5D49290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97461-88F0-4A17-ADD8-7C9C1741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C4835-3897-4E90-93F2-E3E97DE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D88C2-FF5C-42BE-900C-E5F16367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C0517-12CA-4398-A11E-C973DF9B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10C75-8F53-410D-B454-29BBFA91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D202C-42F5-4FA1-9D7D-9F4306B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3DC591-BA22-463D-9CA1-08DA72D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E917F-2BEB-45D8-B06C-E7EF32D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6D365-B30C-4919-A471-F3FC234F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4E03-4353-4F52-A29F-BAA9B59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9EF77-C058-4DC2-84F4-AE0D829D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409E5-7C46-4CA4-82A6-BBDDFEE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85251-D1E6-438C-AB80-5B7F819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27525-37C3-4161-A2FA-121230E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C1FB2-5EC3-45FC-AD51-49C5F4B3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E73B0-1C3B-4C4A-B279-72FD2217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299CF-6A92-4701-A050-F1B39310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78C8A9-9CC5-4E98-A2FB-BE965C6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5BBF9-E625-4358-8FED-4415CAD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294EE-F5E2-4306-AC75-0FAF7CF9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4F9A-A559-44E1-8E40-707E719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4BDFB-79D4-427A-8B26-9E35CAB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AEB08-E91E-4FC2-AB87-C360FA62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F4284-A0CB-4509-A9FD-BD7E6EE2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C2531-2989-48E8-A2F6-890B79FD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8AFED-B1AC-4EB2-916B-D43EC0D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11972-3907-4FCE-AAB1-244DF42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C6BC8C-9444-46E8-BE29-4CEB54AB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98A41-EEBB-4ACD-AD86-9224A8E2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BFDA0-AC55-4872-9A34-76B74043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01245-719F-4762-9BEC-E3F84A44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7041-357E-4104-8013-7E9C5D2B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0CB9D-9982-4F04-87C9-07D615F0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CCE9E-9D03-4799-928D-7B25B4B1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AC3D8-BEE2-49BB-8FDB-A81A817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AE6BC-3874-40BC-B6C2-BAD4BBF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AF01D-29C1-4192-A56E-C1764EB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48EEF-05B3-452F-91EB-587B731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78294-1D9F-47DB-9E4B-3C0BCE5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FFD55-9906-4CDF-8F57-10D39BE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BE3BA-0356-4227-B1C6-583A7A80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BF604-DA2E-4FF9-B8B5-7A184A51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C4FD-957A-410D-94B9-1B3B4F24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22F1F-E68D-4D1A-A4AE-4B0B0CC7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21F68-3884-489F-A00B-6F3B51FF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6DBAE6-581F-4455-A24A-B2BB11C9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BEE8F-74DE-4B9C-958E-0CFD22F3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C93935-81C5-4758-A571-18DA4493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C88398-4AAB-41AE-B60D-278FDCF7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0D7EF-4D2D-4388-AD9D-9278E362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778703-BB37-4E4E-8068-3B88C24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407FA6-2ECF-468D-95A1-4D068BB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776B3-E1F5-4629-83D8-52DCF8F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26D8-7885-4E10-8EF2-CB51DFB5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37B5A-9BBC-4806-AE35-3023CF2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6DF77-3972-46CA-8842-7A14A619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097B3-D1CA-4750-92C3-DE3F17C7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6D64-182F-476A-9DDA-A51E009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6659-904B-486C-BE2D-4BE5413B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BFCC-DF07-40F6-BA0E-E27B4DA6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1DAC-E769-46F6-AFED-E39F3EB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C5D-9A2B-44BF-B5B9-33AC2DC5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5A70-C04F-44A9-928E-ECEC93D3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8210-2D6E-40E3-BBAB-A36FCAA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E2E5-3DF4-4FAC-816E-F7FD2BFD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AC5D-BA99-4AED-A5E4-BF941A4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D343B-14DB-4489-90BF-9A5D3FC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8C6B-4785-468C-BD0E-5067AA30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AE11-26BB-4967-86C6-BFAAC2B7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131B-703F-4AE6-A4F6-4CE6CB84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2B0E-A20C-4094-81CA-687B5A0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4A0B-0EAE-4F5A-9746-92C365D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4A8-C145-48BE-904D-58D2B0D4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7BBC-7D64-4282-BFF4-3332D9EB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CBD6-E099-4FBC-96B1-0A50FF3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294D-7990-4486-B930-5CD17D4A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2EFF-3270-4F7F-8D18-B5EB672C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E322-BF7D-48F9-8BE1-A1080D4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1E55-AE05-4181-ACCB-E013D2B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4E20-7ABE-46D2-A74B-5EEB315F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C4A2-E5ED-4482-A6E6-011497B1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C4D6-343D-4043-A371-EFD72515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C21B-1CEC-46C4-857D-8334D332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F3E-4D66-4AA7-A630-A790ADC5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3CA0-90A0-4288-B276-8509FF10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CDDD-8773-4AA4-B11A-934CFE2B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06EE-36F4-47D0-85B1-AE7CC64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6EA91-A6FF-4BA3-BB9D-5A101686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7AEA-1AF4-491B-BFD7-18FE2372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4985-2DFB-4100-8D5A-1D864BDC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B785-6B13-4785-90CB-DBA82BA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4B44-A3B7-423D-B8ED-D87F3C5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5E4F-FEBB-4D7C-9AC8-003A1DFD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E150-08DA-404D-B25A-62E4A097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A35-5B20-422A-B7D4-AB08FEF8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C2B8-56F3-406D-90EA-11EAAC78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4A5E4-2BFC-485E-BD81-34B093CA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B8A3-742E-4F82-AEE5-9C0DABB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71E7-F554-482D-8E1E-F6145BB2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A1F6F-3CD4-4986-8BD5-72477A8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5667-D665-48C0-9FA5-EDF1738D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D5FB-0BAE-4742-A99C-A0D17DF8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D737-AC41-4FB8-8464-A73419BB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5D2D-63E5-49C4-95F0-4911BE47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1E52E-E250-4A99-97C5-9F71C1B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02B-4720-4741-91B4-9ED2AE2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84EC-78EE-4030-A5DD-26751714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D1FC-F54B-4813-917B-329D22F8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AC45F-FA70-434B-9C1C-E6182927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4A35-40CC-4DF9-87D7-809C8680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86851-BE5D-426D-8A7B-0A5EE328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7CA6-BE3E-4F5A-8CCC-2B9B196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BEAE-F925-4113-9ADB-CC2A92E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3782-070E-4142-A166-D945052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37FED-3ED0-4F44-9164-29519ACE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5670-E3DB-4063-BF3E-FC084F0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AF8-C589-42F5-957D-8D651B8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EA10-62D1-4662-931C-830AF39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B1825-F825-4744-891B-43E0CB9B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B881-A7CB-44DA-AC89-26738200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85FEF-28DD-427E-BAE1-6F32CA37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377F3-EDD7-4A4E-90D5-A4B75E5B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4AC46-3C4F-4B9E-A975-E9EC8877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2EC0-5F51-4593-8B2B-08CA655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27B8-7D5B-4FF7-B782-5114369B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6BA7-6C31-4082-AF83-C457FB04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7C76F-70F2-4252-B756-F6106BB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ED1-FBBC-4C32-B313-E0CDC78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F44D0-1623-4B15-9C2A-4D28D4F0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3414-024C-4476-8AD0-D0C41054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49F8-E7F8-4FE8-AD98-BB71ED6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5342-528B-4303-9DE4-83D756F3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C0EF-95BA-4969-BE8C-5A1BCC06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005DC-521C-4989-9DF7-5176C976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578F-947F-45F8-9B70-E0C02A4C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F7E8E-6B9D-4B56-B893-08E89D9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4829D-BEAA-43B2-BF16-01176E3A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C3D7-3ADC-490C-BE3A-AB954D10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96BB-30FD-4FC0-8E01-3450D3B1F9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9376-5BAF-42B2-BCA3-A813E22D7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A4D3-9C98-4807-A37C-1B8D4CB8D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9BE-149A-45BD-A7A5-FDDC580D5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CA3A-B540-4145-B886-A9868454D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74A6-3295-4BD6-8B69-57A11D48B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14D-1A96-416F-B661-1600D9FA9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592-261E-4880-BBA8-EEBAA0ECB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08EB-4EF3-4586-94D1-1CC209D0C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B1FA-D872-45B5-A290-5B7F6D7D9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7BEF-BFE0-4248-9AE6-E0B655575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B95-F6EB-401D-93E1-708DCE519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43B-1B26-410C-BC72-70B546413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ED77-9C85-4834-9549-B1E641E77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DA56-6182-41A0-B04E-95ADC2763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648D-87D6-42E8-A114-F5D0542731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9EE-7BD6-423C-A6DF-E23BD6BB6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D2A0-A71E-463A-991D-1B79D1EDB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AEA8-5E44-4591-9033-74B2E46B3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36B1-C848-4426-8094-12E0C4F62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40D-F7AD-4C85-BB7E-A28B4279B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2916-CF4B-40D1-A6BB-B292733A0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B7BE-9A3B-49A1-9343-380E4D38B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358E-0144-4703-97C4-E1835B776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4EB-8092-43C6-BD87-D72CECAD5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7842-F9DF-4ACE-9373-CD267A9B5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AA8-D9D0-47C3-8BC0-A60BB8656A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6C67-7313-4344-BDA3-5A7EDD24D9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392-5FD7-46FA-AB10-07379568E4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622F-8CC0-4B80-9A51-BCD56E276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13B8-768D-4BA0-92C2-2A8D7437D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359-141B-453B-A36A-7396C12CD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EEB6-8E38-4B16-BBC8-162E0139E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E815-B4EE-4EEE-A278-36324F2BD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B429-277C-4C76-83A8-B6F26EB16D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12C0-2A08-4031-9539-42523C3D8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B94-CC96-485C-8156-507C366A4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C884-96F4-472B-A44A-FE27778E4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B85-49C4-4E73-B2C5-AD15576392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E3E3-D766-48CA-90D1-9EADA58CC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19480" y="3219480"/>
            <a:ext cx="45050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04640" y="814320"/>
            <a:ext cx="8334720" cy="5639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19280" y="137016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84720" y="134136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948360" y="1341360"/>
            <a:ext cx="79236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547640" y="184464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213080" y="181620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77080" y="181620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76360" y="28954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63528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72436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81200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504800" y="3357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664080" y="3386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753160" y="3386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840800" y="3386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2050920" y="6049800"/>
            <a:ext cx="122580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372360" y="6035760"/>
            <a:ext cx="122544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60445" descr=""/>
          <p:cNvPicPr/>
          <p:nvPr/>
        </p:nvPicPr>
        <p:blipFill>
          <a:blip r:embed="rId18"/>
          <a:stretch/>
        </p:blipFill>
        <p:spPr>
          <a:xfrm>
            <a:off x="1303200" y="553068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5651640" y="5545080"/>
            <a:ext cx="1628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1009800" y="885960"/>
            <a:ext cx="7124400" cy="54957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9411" descr=""/>
          <p:cNvPicPr/>
          <p:nvPr/>
        </p:nvPicPr>
        <p:blipFill>
          <a:blip r:embed="rId2"/>
          <a:stretch/>
        </p:blipFill>
        <p:spPr>
          <a:xfrm>
            <a:off x="1677960" y="318456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9412" descr=""/>
          <p:cNvPicPr/>
          <p:nvPr/>
        </p:nvPicPr>
        <p:blipFill>
          <a:blip r:embed="rId3"/>
          <a:stretch/>
        </p:blipFill>
        <p:spPr>
          <a:xfrm>
            <a:off x="1677960" y="378936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9413" descr=""/>
          <p:cNvPicPr/>
          <p:nvPr/>
        </p:nvPicPr>
        <p:blipFill>
          <a:blip r:embed="rId4"/>
          <a:stretch/>
        </p:blipFill>
        <p:spPr>
          <a:xfrm>
            <a:off x="5032440" y="318456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9414" descr=""/>
          <p:cNvPicPr/>
          <p:nvPr/>
        </p:nvPicPr>
        <p:blipFill>
          <a:blip r:embed="rId5"/>
          <a:stretch/>
        </p:blipFill>
        <p:spPr>
          <a:xfrm>
            <a:off x="5032440" y="378936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9415" descr=""/>
          <p:cNvPicPr/>
          <p:nvPr/>
        </p:nvPicPr>
        <p:blipFill>
          <a:blip r:embed="rId6"/>
          <a:stretch/>
        </p:blipFill>
        <p:spPr>
          <a:xfrm>
            <a:off x="3102120" y="595008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6516720" y="5950080"/>
            <a:ext cx="1150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7:4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